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0E55F-597A-4045-B9F3-957DBBFEBD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97134-862C-4BE1-AAA9-38871D5EBA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designed to facilitate the creation of presentations within Intersil graphic guidelines. These presentations may address an external audience, as in a product announcement or industry event, or an internal one, as in seminars or executive committee meetings.  In any case, it is important to adhere to a corpor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vides standards and guidelines to help project Intersil’s corporate identity.  Projecting visual continuity is a key to the success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based on the capabilities of Microsoft PowerPoint, one of our corporate standard software packages. The following slides and script describe the graphic standards and guidelines for these present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address four key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yout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placement of text, logo, and graphic treatments (symbols, bar charts and table ch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uidelin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sing photography and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sage and standard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6D0-17B7-4245-90CC-D89D4C85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F0D-1865-4DF3-BF5F-BC6CACB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214-458F-4E72-B9EA-3161B350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9A2-20C9-4B0C-8DB5-3F237F8B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D61-C940-48B3-B55C-34634582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6B5-D363-4CE2-813A-98D238DB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210-8CCC-4892-86FB-27821E5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4F1-BC5E-41D7-BEF4-8327082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5BA-F4C8-485D-9EB0-262C2DE5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4F5-7B7F-4831-8F73-EB22EE80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0CB-16C9-4340-B34B-2FEF9E1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35C-B18B-4136-B098-C5825D2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072BF2-11F9-461D-B13E-B68EA2B06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590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9760" y="51055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Zyren, 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6A0-22E0-4E2C-ADD9-D6E937B9DE0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 powerful and prove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independently selected by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provides excellent performance in multipath and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 and error coding result in extremely robu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arrier systems do not scale well for very hig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r complexity fatally flawed HiperLAN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repeat this mista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260-1420-474C-9CDB-9B28EDA1B4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demand for bandwidth is insat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 Mbps is better, but it is insufficient for many appl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development is raising market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can scale data rates to &gt;54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bandwidth to remain 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to serve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go through standards process again in two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when consumers demand &gt;20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ew years, consumers will demand 54 Mbps, they don’t care about the frequency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A3E-8815-4E89-9C9E-BA60AF47C6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grad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lready used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OFDM for 2.4 GHz band provides upgrade path to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become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nfrastructure does not become str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band remains competitive in terms of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adio can work regardless of infrastru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customers, good for suppl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59B-F349-4FAE-A703-BCBA8355A6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CC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systems with &gt;20 Mbps in current channel width have regulatory approv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ublic statements clearly indicate that spectral efficiency is a major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C is publicly considering revision of 15.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y forum to be held in Jan-Feb time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has requested input from IEEE 802.11/.15/.16 regarding issues to be placed on forum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wants to work with industry to make ALL proposed high rate waveforms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HG has drafted FCC response to be considered at 802.11 plenary to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DM on same regulatory footing as other propos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82B-987D-4929-BFC6-683190A2C5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8992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DON’T pick OFD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body else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chnology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tes are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in multipath and AWGN i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, proprietary solut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ompanies are developing OFDM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will not be a leader in 2.4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won’t care about 22 Mbps if 54 Mbps is available from other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oncede the 2.4 GHz band to non-802.11 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30E-90B1-4104-88C2-D47150715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899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ong-term think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ive years, consumers will be demanding 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 we think 22 Mbps will be compet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do we want to do this again next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ick OFD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GHz band remains v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oes not “open the door” to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will extend the life of 2.4 GHz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9A6-B262-45E4-A3EE-5715A4C45F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89920" cy="28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not get a high rate (&gt;20 Mbps) solution approved in the 2.4 GHz band without a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right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an be in place when FCC give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ultipath and AWG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ath to 5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F86-ADBE-493B-AC16-44E8B32867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5:48:05Z</dcterms:created>
  <dc:creator>Jim Zyren</dc:creator>
  <dc:description>Jim Zyren, Intersil</dc:description>
  <cp:keywords>November 2000</cp:keywords>
  <dc:language>en-US</dc:language>
  <cp:lastModifiedBy>Harris Semiconductor</cp:lastModifiedBy>
  <cp:lastPrinted>1998-02-10T13:28:06Z</cp:lastPrinted>
  <dcterms:modified xsi:type="dcterms:W3CDTF">2000-11-09T14:32:26Z</dcterms:modified>
  <cp:revision>8</cp:revision>
  <dc:subject/>
  <dc:title>Why OFDM for the High Rate 802.11b Extension</dc:title>
</cp:coreProperties>
</file>